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1BDF-2DFF-4A4E-8A8C-AEF9D6B7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60F-A472-49AE-B673-5BE39AC6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CB8-146E-4F8A-A441-4E314523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DA7-454B-4D9B-AC32-18524BFD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562F-7663-4ADA-9BD7-3A994642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91DC-BE7F-4954-AEAF-58F53846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BD52-2DEA-4053-907A-B0859FBF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B0DD-4B00-4E78-AE0A-C3EBCF9F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D05D-05DE-49F4-AF63-205C2614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03A9-AB5D-4D98-B8EA-0F1A00F8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BD18-2248-4818-A6FF-2A41689D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92A-03C6-41EC-8597-2ED52093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F83C-FBB7-4C97-9D9F-0EFBB4EE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E748-EDED-45FA-AAA5-896DFF55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098F-E334-452B-903D-CB40C507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F0C2-33FD-4445-81B4-998A9D6B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BB30-9C09-443F-AA28-74E725A3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F6B-0EEC-46B5-A0A6-5E7FFDD4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1362-E25D-4F94-9B2E-1E6EC860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3D8-4017-48D8-B236-0571114B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B8D3-9BC6-47FA-A9C6-2FC6BCC6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CCDD-62CF-4773-9AD8-750D8792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FB99-2A74-4871-B67A-AB994EDF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224-D0D3-48A8-9779-F30124D2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17DF-0A7F-4E9F-9EC4-E0B083AE6CB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B2C2-3CA6-4F9D-94CA-9DBAA2CE659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бота выполнена в рамках проекта «Повышение квалификации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зличных категорий работников образования и формирования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у них базовой педагогической ИКТ-компетентости» по программе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«Информационные технологии в деятельности учителя-предметника»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5" descr="logo_phpBB"/>
          <p:cNvPicPr/>
          <p:nvPr/>
        </p:nvPicPr>
        <p:blipFill>
          <a:blip r:embed="rId2"/>
          <a:stretch/>
        </p:blipFill>
        <p:spPr>
          <a:xfrm>
            <a:off x="7885080" y="404640"/>
            <a:ext cx="934920" cy="881280"/>
          </a:xfrm>
          <a:prstGeom prst="rect">
            <a:avLst/>
          </a:prstGeom>
          <a:ln w="0">
            <a:noFill/>
          </a:ln>
        </p:spPr>
      </p:pic>
      <p:sp>
        <p:nvSpPr>
          <p:cNvPr id="169" name="WordArt 6"/>
          <p:cNvSpPr txBox="1"/>
          <p:nvPr/>
        </p:nvSpPr>
        <p:spPr>
          <a:xfrm>
            <a:off x="2124000" y="1989000"/>
            <a:ext cx="4305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а-5 клас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2997360"/>
            <a:ext cx="475272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вто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ннотация к выпускной работ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Тематическое планирован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Урок: Геометрические тел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лан урок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963360" y="4811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Скругленный прямоугольник 8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716000" y="549000"/>
            <a:ext cx="397044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ъем прямоугольного параллелепипед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a·b·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3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с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с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24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ru-RU" sz="3200" spc="-1" strike="noStrike" baseline="30000">
                <a:solidFill>
                  <a:srgbClr val="006699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24000" y="1989000"/>
            <a:ext cx="3671640" cy="424836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5"/>
          <p:cNvSpPr/>
          <p:nvPr/>
        </p:nvSpPr>
        <p:spPr>
          <a:xfrm flipV="1">
            <a:off x="1258920" y="1988640"/>
            <a:ext cx="79200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6"/>
          <p:cNvSpPr/>
          <p:nvPr/>
        </p:nvSpPr>
        <p:spPr>
          <a:xfrm flipV="1">
            <a:off x="2124000" y="1988640"/>
            <a:ext cx="79236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755640" y="2421000"/>
            <a:ext cx="2808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125892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212400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324000" y="3645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324000" y="4437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324000" y="5445000"/>
            <a:ext cx="27352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3132000" y="278100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14"/>
          <p:cNvSpPr/>
          <p:nvPr/>
        </p:nvSpPr>
        <p:spPr>
          <a:xfrm flipV="1">
            <a:off x="3059280" y="3573360"/>
            <a:ext cx="936360" cy="935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15"/>
          <p:cNvSpPr/>
          <p:nvPr/>
        </p:nvSpPr>
        <p:spPr>
          <a:xfrm flipV="1">
            <a:off x="3132000" y="450828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3564000" y="242100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971640" y="63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а=3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3722040" y="56768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=2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Text Box 32"/>
          <p:cNvSpPr/>
          <p:nvPr/>
        </p:nvSpPr>
        <p:spPr>
          <a:xfrm>
            <a:off x="3995640" y="3213000"/>
            <a:ext cx="1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4091040" y="39481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=4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6237000" y="472428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17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тог урока –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-анализ тес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7" name="Picture 5" descr="02"/>
          <p:cNvPicPr/>
          <p:nvPr/>
        </p:nvPicPr>
        <p:blipFill>
          <a:blip r:embed="rId1"/>
          <a:stretch/>
        </p:blipFill>
        <p:spPr>
          <a:xfrm>
            <a:off x="1258920" y="1700280"/>
            <a:ext cx="7129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Аннотация к выпускной  работ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8317440" y="1413000"/>
            <a:ext cx="171370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ыть использованы при объяснени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ового материала по теме «геометрическ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тела» 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18728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112536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 бы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спользованы для объяснения новог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атериала по теме «геометрические тела» в 5 класс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зависимости от формы урока слай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жно использовать выборочн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ти же слайды можно применя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 уроках стереометрии в 10 и 11 класса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 к уроку можно использова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10 классе в теме «Многогранники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качестве инструментальных средств для подготовки к уроку были использованы компьютерные программы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 Power Point, Microsoft Word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ffice Picture Manage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сурсы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чебник «Математика» (5кл.), авт. Зубарева, Мордкович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http://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artavaleha.com/uploads/posts/1167778609_konus_07.jp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http://paint.dn.ua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/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19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б автор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640" y="2708280"/>
            <a:ext cx="7488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Я, Бурухина Наталия Александровна, работа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чительницей матема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 экономики в школе №11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аж работы – 35 л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сшая категор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Отличник народного просвещения.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4" descr="IMG_4618"/>
          <p:cNvPicPr/>
          <p:nvPr/>
        </p:nvPicPr>
        <p:blipFill>
          <a:blip r:embed="rId1"/>
          <a:stretch/>
        </p:blipFill>
        <p:spPr>
          <a:xfrm>
            <a:off x="5724360" y="0"/>
            <a:ext cx="3708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грамм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туральные чис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ыкновен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еометрические фигур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есятич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cc00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Verdana"/>
              </a:rPr>
              <a:t>Геометрические тел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ведение в вероят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Геометрические тела 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(7 уроков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848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-ый урок: «Геометрические тела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ль: познакомить учащихся 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лассификацией геометрически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л и подробнее – с прямоугольны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раллелепипед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лан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6320" indent="-79632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екц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)предмет стереометри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)классификация геометрических тел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)прямоугольный параллелепипед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го развертка 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)объем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I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Тест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78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ла, поверхность которых состоит из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ногоугольников, называются </a:t>
            </a: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многогранникам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пример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900000" y="551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ирамид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14"/>
          <p:cNvSpPr/>
          <p:nvPr/>
        </p:nvSpPr>
        <p:spPr>
          <a:xfrm flipH="1">
            <a:off x="6011280" y="5516640"/>
            <a:ext cx="27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ямоугольны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араллелепипед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15" descr=""/>
          <p:cNvPicPr/>
          <p:nvPr/>
        </p:nvPicPr>
        <p:blipFill>
          <a:blip r:embed="rId1"/>
          <a:stretch/>
        </p:blipFill>
        <p:spPr>
          <a:xfrm>
            <a:off x="420840" y="2349360"/>
            <a:ext cx="2179440" cy="3167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"/>
          <p:cNvPicPr/>
          <p:nvPr/>
        </p:nvPicPr>
        <p:blipFill>
          <a:blip r:embed="rId2"/>
          <a:stretch/>
        </p:blipFill>
        <p:spPr>
          <a:xfrm>
            <a:off x="2916360" y="2421000"/>
            <a:ext cx="2128680" cy="3384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3276720" y="551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изм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19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1800360" cy="3049560"/>
          </a:xfrm>
          <a:prstGeom prst="rect">
            <a:avLst/>
          </a:prstGeom>
          <a:ln w="0">
            <a:noFill/>
          </a:ln>
        </p:spPr>
      </p:pic>
    </p:spTree>
  </p:cSld>
  <p:transition advTm="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44000" cy="109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ла, ограниченные не только плоскими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верхностями, называются круглыми телами.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пример: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4" descr="DSC00448"/>
          <p:cNvPicPr/>
          <p:nvPr/>
        </p:nvPicPr>
        <p:blipFill>
          <a:blip r:embed="rId1"/>
          <a:stretch/>
        </p:blipFill>
        <p:spPr>
          <a:xfrm>
            <a:off x="250920" y="1989000"/>
            <a:ext cx="1763640" cy="181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987792"/>
          <p:cNvPicPr/>
          <p:nvPr/>
        </p:nvPicPr>
        <p:blipFill>
          <a:blip r:embed="rId2"/>
          <a:stretch/>
        </p:blipFill>
        <p:spPr>
          <a:xfrm>
            <a:off x="6156360" y="2060640"/>
            <a:ext cx="2665440" cy="1771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1"/>
          <p:cNvSpPr/>
          <p:nvPr/>
        </p:nvSpPr>
        <p:spPr>
          <a:xfrm>
            <a:off x="468360" y="4076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3564000" y="4149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ону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948360" y="407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а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15" descr="1167778609_konus_07"/>
          <p:cNvPicPr/>
          <p:nvPr/>
        </p:nvPicPr>
        <p:blipFill>
          <a:blip r:embed="rId3"/>
          <a:stretch/>
        </p:blipFill>
        <p:spPr>
          <a:xfrm>
            <a:off x="3059280" y="1844640"/>
            <a:ext cx="223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окружающей обстановке многи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дметы имеют форму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4" descr="13"/>
          <p:cNvPicPr/>
          <p:nvPr/>
        </p:nvPicPr>
        <p:blipFill>
          <a:blip r:embed="rId1"/>
          <a:stretch/>
        </p:blipFill>
        <p:spPr>
          <a:xfrm>
            <a:off x="826920" y="299736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8"/>
          <p:cNvSpPr/>
          <p:nvPr/>
        </p:nvSpPr>
        <p:spPr>
          <a:xfrm>
            <a:off x="5796000" y="2852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реб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796000" y="3500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ир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867280" y="429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5940360" y="501336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л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6659640" y="378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Line 24"/>
          <p:cNvSpPr/>
          <p:nvPr/>
        </p:nvSpPr>
        <p:spPr>
          <a:xfrm flipH="1">
            <a:off x="3419640" y="3645000"/>
            <a:ext cx="2232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25"/>
          <p:cNvSpPr/>
          <p:nvPr/>
        </p:nvSpPr>
        <p:spPr>
          <a:xfrm flipH="1">
            <a:off x="3924360" y="4508640"/>
            <a:ext cx="1800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26"/>
          <p:cNvSpPr/>
          <p:nvPr/>
        </p:nvSpPr>
        <p:spPr>
          <a:xfrm flipH="1">
            <a:off x="2268360" y="5229360"/>
            <a:ext cx="3456000" cy="21564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6804000" y="3500280"/>
            <a:ext cx="360360" cy="2016360"/>
          </a:xfrm>
          <a:custGeom>
            <a:avLst/>
            <a:gdLst>
              <a:gd name="textAreaLeft" fmla="*/ 0 w 360360"/>
              <a:gd name="textAreaRight" fmla="*/ 129960 w 360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730872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1372680" y="4437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гран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Line 31"/>
          <p:cNvSpPr/>
          <p:nvPr/>
        </p:nvSpPr>
        <p:spPr>
          <a:xfrm flipV="1">
            <a:off x="900000" y="5444640"/>
            <a:ext cx="358920" cy="5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32"/>
          <p:cNvSpPr/>
          <p:nvPr/>
        </p:nvSpPr>
        <p:spPr>
          <a:xfrm flipV="1">
            <a:off x="900000" y="3715920"/>
            <a:ext cx="358920" cy="23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708480" y="59500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ершин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ак этим насекомым найти сам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роткий путь друг к другу по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верхности тел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324000" y="2276640"/>
            <a:ext cx="2303280" cy="172692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  <a:effectLst>
            <a:outerShdw dist="107932" dir="135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79280" y="256536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2484360" y="3429000"/>
            <a:ext cx="28728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26692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13856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514656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702000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5146560" y="285264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5148360" y="544500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19"/>
          <p:cNvSpPr/>
          <p:nvPr/>
        </p:nvSpPr>
        <p:spPr>
          <a:xfrm>
            <a:off x="2124000" y="407664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5003640" y="5300640"/>
            <a:ext cx="28764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22"/>
          <p:cNvSpPr/>
          <p:nvPr/>
        </p:nvSpPr>
        <p:spPr>
          <a:xfrm>
            <a:off x="2268360" y="4221000"/>
            <a:ext cx="2808360" cy="1152720"/>
          </a:xfrm>
          <a:prstGeom prst="line">
            <a:avLst/>
          </a:prstGeom>
          <a:ln w="2844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4643280" y="1557360"/>
            <a:ext cx="3792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Эта фигура называ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азвертко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11280" y="5589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Этот путь – самый коротки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6:42:17Z</dcterms:created>
  <dc:creator>web</dc:creator>
  <dc:description/>
  <dc:language>en-US</dc:language>
  <cp:lastModifiedBy>Owner</cp:lastModifiedBy>
  <dcterms:modified xsi:type="dcterms:W3CDTF">2011-06-13T14:45:41Z</dcterms:modified>
  <cp:revision>34</cp:revision>
  <dc:subject/>
  <dc:title>Слайд 1</dc:title>
</cp:coreProperties>
</file>